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B814-AB2C-4BB0-B0C2-6F6D6AB45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0656-A40B-4D6D-BCE2-DD30D8DCB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DF1-71B5-4D74-A37E-05C9F7B1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BC2-2AE8-415F-A17B-1ACC86B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C0F-093C-46F9-AFD7-8932EBA3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BA2-9B27-4D0F-849C-D3012A06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B67C-563D-4315-8A4F-ED23556C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10EF-9179-4ED8-82FE-44EDA96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E0FD-FB97-4056-B6F5-0E5EAD98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2DD-1EA0-44E4-958E-FF3978A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7BF6-C73E-41BA-BC07-3C5D011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5A85-A599-4DC8-A20A-0D2540D5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302-99E5-4B50-94CA-9B645A1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6C2-992F-4777-B369-CDAAC71F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ABD0-BCEA-434A-8315-8D36106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1A8D-A3D8-4091-8F2D-BA17A9D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3F1C-F193-499F-AFC8-C5DC5B51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D6A-8E63-4911-9CC4-0959A8EF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1A88-08C0-4E89-8393-C908BBE9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0BC-EA75-4D9E-880A-C9C4744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544-1EF0-40A4-B0D5-FF4FFED6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434-D0E8-4FFE-AFB9-5A0FCEA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F93-8B13-4474-8A56-9C15EEE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8E-BAF4-4A8B-90D8-C147ECEF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573-F53B-4778-90D6-6F5984BC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759-C458-4045-AEFB-418EDD3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D63-6AC7-4155-8FB2-3B352E153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4E4F-C323-4992-936B-EF63B3400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This is a preview only. Click Download Now to download the template."/>
          <p:cNvPicPr/>
          <p:nvPr/>
        </p:nvPicPr>
        <p:blipFill>
          <a:blip r:embed="rId2"/>
          <a:srcRect l="15001" t="83506" r="79171" b="13164"/>
          <a:stretch/>
        </p:blipFill>
        <p:spPr>
          <a:xfrm>
            <a:off x="1295280" y="4876920"/>
            <a:ext cx="28958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This is a preview only. Click Download Now to download the template."/>
          <p:cNvPicPr/>
          <p:nvPr/>
        </p:nvPicPr>
        <p:blipFill>
          <a:blip r:embed="rId3"/>
          <a:srcRect l="21818" t="31071" r="5456" b="49518"/>
          <a:stretch/>
        </p:blipFill>
        <p:spPr>
          <a:xfrm>
            <a:off x="838080" y="3886200"/>
            <a:ext cx="51055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This is a preview only. Click Download Now to download the template."/>
          <p:cNvPicPr/>
          <p:nvPr/>
        </p:nvPicPr>
        <p:blipFill>
          <a:blip r:embed="rId4"/>
          <a:srcRect l="21818" t="31071" r="5456" b="49518"/>
          <a:stretch/>
        </p:blipFill>
        <p:spPr>
          <a:xfrm>
            <a:off x="838080" y="4572000"/>
            <a:ext cx="5181840" cy="7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This is a preview only. Click Download Now to download the template."/>
          <p:cNvPicPr/>
          <p:nvPr/>
        </p:nvPicPr>
        <p:blipFill>
          <a:blip r:embed="rId5"/>
          <a:srcRect l="14548" t="69911" r="63641" b="28163"/>
          <a:stretch/>
        </p:blipFill>
        <p:spPr>
          <a:xfrm>
            <a:off x="685800" y="4648320"/>
            <a:ext cx="777240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his is a preview only. Click Download Now to download the template."/>
          <p:cNvPicPr/>
          <p:nvPr/>
        </p:nvPicPr>
        <p:blipFill>
          <a:blip r:embed="rId6"/>
          <a:srcRect l="84366" t="17475" r="8363" b="72819"/>
          <a:stretch/>
        </p:blipFill>
        <p:spPr>
          <a:xfrm>
            <a:off x="457200" y="1523880"/>
            <a:ext cx="82296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This is a preview only. Click Download Now to download the template."/>
          <p:cNvPicPr/>
          <p:nvPr/>
        </p:nvPicPr>
        <p:blipFill>
          <a:blip r:embed="rId7"/>
          <a:srcRect l="15001" t="83506" r="79171" b="13164"/>
          <a:stretch/>
        </p:blipFill>
        <p:spPr>
          <a:xfrm>
            <a:off x="838080" y="533520"/>
            <a:ext cx="7239240" cy="50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75960" y="3236760"/>
            <a:ext cx="6164280" cy="17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Objective:  Solve real world formulas in terms of other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entury Gothic"/>
              </a:rPr>
              <a:t>Literal Equ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view:  Solve the following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200" y="168768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 – 4s + 11 = 2 – 3s +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04560" y="2130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s + 11 = 9 – 3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141200" y="252252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s                +3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204920" y="2917800"/>
            <a:ext cx="21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7800" y="2206800"/>
            <a:ext cx="2462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457640" y="30337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+ 11 =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793160" y="3424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1   -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003400" y="3090960"/>
            <a:ext cx="24624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50800" y="381780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26440" y="38862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892400" y="16794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 – 2(3 – n)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068800" y="2160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 – 6 + 2n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67012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n – 6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061680" y="3075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6      +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762520" y="3454560"/>
            <a:ext cx="14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41760" y="2728800"/>
            <a:ext cx="5868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108120" y="35114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n = -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197760" y="3875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6734160" y="3875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223680" y="385776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226200" y="3556080"/>
            <a:ext cx="217440" cy="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6248160" y="4235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4840" y="4414320"/>
            <a:ext cx="792468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, simplify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verse operations to isolate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ul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ebraic equation that relates two or more real life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t  (distance = rate •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= P • r • t  (Interest = Principle • rate •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may be necessary to solve the formula for a variable other than the one for which it is already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equations for 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59400" y="229860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13080" y="2089080"/>
          <a:ext cx="3063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2089080"/>
                    <a:ext cx="3063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88960" y="22845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622240" y="22845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08040" y="2374920"/>
            <a:ext cx="68076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46360" y="29113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=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863720" y="34765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782960" y="229392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7000" y="2071800"/>
          <a:ext cx="30672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2071800"/>
                    <a:ext cx="30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413240" y="2279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5546880" y="2279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32320" y="2370240"/>
            <a:ext cx="68112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12760" y="290664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 =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758840" y="347184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4840" y="4414320"/>
            <a:ext cx="792468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 formula for another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verse operations to isolate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79440" y="2811600"/>
          <a:ext cx="40500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811600"/>
                    <a:ext cx="405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74800" y="1577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I = Prt for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20574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901880" y="23954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465200" y="23954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345320" y="23763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   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916280" y="2104920"/>
            <a:ext cx="347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640520" y="30034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475280" y="3603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89000" y="3406680"/>
          <a:ext cx="40500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9000" y="3406680"/>
                    <a:ext cx="405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73640" y="1517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for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169160" y="203976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45268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730760" y="24526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4163040" y="24066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    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746240" y="2178000"/>
            <a:ext cx="32076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73400" y="2833560"/>
          <a:ext cx="35100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3400" y="2833560"/>
                    <a:ext cx="351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391280" y="29685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4227840" y="35226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37240" y="3378240"/>
          <a:ext cx="35064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7240" y="3378240"/>
                    <a:ext cx="350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14960" y="160812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½ bh for 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6838920" y="2119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½ b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6468840" y="21178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7934040" y="21016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2162160"/>
            <a:ext cx="2905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8128080" y="2162160"/>
            <a:ext cx="23328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6702840" y="25797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= b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0" y="29322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7373880" y="293220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6788520" y="291312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    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518240" y="2627280"/>
            <a:ext cx="146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681960" y="3286080"/>
          <a:ext cx="485640" cy="73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81960" y="3286080"/>
                    <a:ext cx="485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094880" y="34941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890040" y="4087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400880" y="3902040"/>
          <a:ext cx="486000" cy="73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00880" y="3902040"/>
                    <a:ext cx="486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9760" y="16509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3x = -2y + 10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933840" y="221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= -2y +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58120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            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814320" y="2946240"/>
            <a:ext cx="17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2236680" y="2278080"/>
            <a:ext cx="30492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375480" y="300204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– 10 = -2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22280" y="33670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336708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1569960" y="33670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44160" y="331956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    -2    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598760" y="3062160"/>
            <a:ext cx="2314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309960" y="3772080"/>
            <a:ext cx="147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5 =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1070640" y="4235400"/>
            <a:ext cx="147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232080" y="166860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2x + y = -3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858120" y="22017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 + y = 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3771360" y="25653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x          -2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765600" y="294624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909960" y="2263680"/>
            <a:ext cx="34776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438080" y="3016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2x 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5879880" y="165276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5x = -3y + 7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6594840" y="21477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 = -3y +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6642360" y="246528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            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647040" y="2816280"/>
            <a:ext cx="14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7896240" y="2192400"/>
            <a:ext cx="130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6177960" y="285768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 – 7 = -3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6211800" y="32353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6748560" y="32353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7227720" y="32353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6205320" y="320688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   -3     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2903400"/>
            <a:ext cx="2318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5892120" y="3586320"/>
            <a:ext cx="157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6760440" y="3986280"/>
            <a:ext cx="157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5480" y="1681200"/>
            <a:ext cx="315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C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– 32) for 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1190160" y="2259000"/>
            <a:ext cx="178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– 3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863800" y="2262240"/>
            <a:ext cx="57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716040" y="224964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1711440" y="2322360"/>
            <a:ext cx="31896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3046320" y="2322360"/>
            <a:ext cx="3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932760" y="2784600"/>
            <a:ext cx="168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F – 3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920520" y="315900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2         +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941400" y="35434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2174760" y="2844720"/>
            <a:ext cx="34920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368640" y="3597120"/>
            <a:ext cx="161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32 =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1224360" y="3990960"/>
            <a:ext cx="161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3839760" y="170820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I = Prt for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424400" y="2955960"/>
          <a:ext cx="43164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2955960"/>
                    <a:ext cx="4316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632480" y="2214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5059440" y="2552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22760" y="25527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503600" y="25336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   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5073480" y="2262240"/>
            <a:ext cx="18756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79736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4632480" y="3760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133960" y="3551400"/>
          <a:ext cx="43164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3960" y="3551400"/>
                    <a:ext cx="43164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 flipH="1">
            <a:off x="5268600" y="2263680"/>
            <a:ext cx="17460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6079320" y="1722600"/>
            <a:ext cx="24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V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for 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6757920" y="2208240"/>
            <a:ext cx="11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7286760" y="2554200"/>
            <a:ext cx="57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807240" y="2554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6709680" y="2494080"/>
            <a:ext cx="11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r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0" y="2308320"/>
            <a:ext cx="47952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566040" y="2851200"/>
          <a:ext cx="53964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2851200"/>
                    <a:ext cx="539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993360" y="30700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6771240" y="36702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218360" y="3448080"/>
          <a:ext cx="53964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3448080"/>
                    <a:ext cx="5396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4760" y="182556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           for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2220840" y="444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00200" y="1633680"/>
          <a:ext cx="69696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33680"/>
                    <a:ext cx="6969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111680" y="256716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24040" y="2386080"/>
          <a:ext cx="6969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4040" y="2386080"/>
                    <a:ext cx="696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40000" y="2581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741240" y="2565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91800" y="2714760"/>
            <a:ext cx="9414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984240" y="31590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= b +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1058400" y="3510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   -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919080" y="38750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1673280" y="3192480"/>
            <a:ext cx="11736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537120" y="38876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– b =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1117800" y="42782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ad -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3014280" y="18399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r =        for 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168800" y="1641600"/>
          <a:ext cx="45576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8800" y="1641600"/>
                    <a:ext cx="4557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768840" y="259704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246560" y="2390760"/>
          <a:ext cx="45576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6560" y="239076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673520" y="2595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3322440" y="2610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254480" y="2712960"/>
            <a:ext cx="9590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582720" y="316224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t = P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3630600" y="352728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240080" y="352728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656160" y="347976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     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370040" y="3208320"/>
            <a:ext cx="17460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625920" y="3897360"/>
          <a:ext cx="455400" cy="72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5920" y="3897360"/>
                    <a:ext cx="45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77640" y="410544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3728520" y="467028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300560" y="4486320"/>
          <a:ext cx="455760" cy="72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00560" y="4486320"/>
                    <a:ext cx="4557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305680" y="1854360"/>
            <a:ext cx="341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½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6126840" y="2449440"/>
            <a:ext cx="197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½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7964280" y="2463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5759280" y="24494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6647040" y="2511360"/>
            <a:ext cx="2901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8156520" y="2525760"/>
            <a:ext cx="26208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5982840" y="2957400"/>
            <a:ext cx="183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=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3367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6662880" y="33526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6076800" y="336564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        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6647040" y="3033720"/>
            <a:ext cx="60948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951520" y="3724200"/>
          <a:ext cx="480960" cy="72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51520" y="372420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349320" y="3930480"/>
            <a:ext cx="113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5998680" y="4395960"/>
            <a:ext cx="101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5892840" y="4775040"/>
            <a:ext cx="16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>
            <a:off x="6689880" y="3990960"/>
            <a:ext cx="13176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392800" y="4618080"/>
          <a:ext cx="480960" cy="72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2800" y="461808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886000" y="4784760"/>
            <a:ext cx="107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6040440" y="5278320"/>
            <a:ext cx="163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      -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626160" y="5095800"/>
          <a:ext cx="480960" cy="72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6160" y="509580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1:34:55Z</dcterms:created>
  <dc:creator>Leigh Anne Fitz</dc:creator>
  <dc:description/>
  <dc:language>en-US</dc:language>
  <cp:lastModifiedBy>Virginia Beach City Public Schools</cp:lastModifiedBy>
  <dcterms:modified xsi:type="dcterms:W3CDTF">2008-11-17T18:41:22Z</dcterms:modified>
  <cp:revision>1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8281033</vt:lpwstr>
  </property>
</Properties>
</file>